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23.jpeg" ContentType="image/jpeg"/>
  <Override PartName="/ppt/media/image21.wmf" ContentType="image/x-wmf"/>
  <Override PartName="/ppt/media/image1.png" ContentType="image/png"/>
  <Override PartName="/ppt/media/image24.png" ContentType="image/png"/>
  <Override PartName="/ppt/media/image19.gif" ContentType="image/gif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633-CBBF-4C3B-9F91-A145900D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A62-1F76-4E94-9AFF-9BB6E0C6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27C-25A9-4132-A5EC-36141FAF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F9E-42C5-4AFE-B42A-92574EC9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EE6-C983-427E-B404-60AE3988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FA7-34F9-4EC0-97A5-06738A93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568-EF41-4CE8-AAAA-C19DF652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128-1E43-44D9-A76B-441BA85B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4FF-C9F7-46A1-9B9F-E27BC8EE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096-3EB3-4F32-B74A-9DB5B228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95A-B389-4B89-AB67-564F085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C14-2246-4BD9-B964-4BD4F52C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4749-B995-49C5-82A7-67CC8720E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14480" y="582624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тедра за Физиолог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оц. др Владимир Живк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130840" y="1197000"/>
            <a:ext cx="48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стомат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68360" y="1916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УЛ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И ФИЗИОЛОГИЈ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3068640"/>
            <a:ext cx="6624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. наставна јединица (трећ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зиологиј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8960" y="1197000"/>
            <a:ext cx="8506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4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мировни мембрански потенцијал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редност мировног мембранског потенцијала је око -90 mV, што је приближно равнотежном потенцијал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за К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оком мировног мембранског потенцијала количина јона која уђе у кардиомиоците и која из њих изађе је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риближно ист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862360" y="3500280"/>
            <a:ext cx="3419280" cy="249264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5940360" y="558972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Природа и ширење екцитације кроз ср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проводни систе срц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чине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 чв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интернодалн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нопов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предњи, средњи и задњи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 чв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исов сно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уркињеов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лак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7199280" cy="3819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44360" y="4941720"/>
            <a:ext cx="3203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атомска локализација делова спроводног система срца и изглед њиховог акционог потенциј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 се налази на споју горње шупље вене и десне преткоморе, док се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AV чвор налази у задњем десном делу интератријалног септу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остоје три снопа преткоморских влакана која повезују SA чвор са AV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чвором: предњи, средњи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енкебахов сноп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Wenckebac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адњи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Торелов сноп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hore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AV чвор се наставља Хисовим снопом, који се на врху интервентрикуларног септума дели на леву и десну гран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ране и снопови се простиру наниже у субендокардијалном слоју са сваке стране септума и ступају у контакт са Пуркињеовим системом, чија се влакна шире до свих делова миокарда комо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Ћелије које ритмички окидају акционе потенцијале имај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мембранске потенцијале који се након сваког импулса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риближавају нивоу прага окидањ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акав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едводнички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епотенцијал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узрокује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станак следећег акционог потенција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физиолошким условим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предводник срчаног рит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pacemaker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одређеним патолошким стањима када је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 супримиран, улогу предводника срчаног ритма преузим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чвор, Хисов сноп или Пуркињеова влакна, због чега се ови делови спроводног система називају “латентним” предводницима срчаног рит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проводни систем срца састављен је од модификованог срчаног мишића који има мање пруга и нејасне границ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Акциони потенцијал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чвор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фазе 1 и 2 које постоје у акционом потенцијалу преткомора, комора и Пуркињеових влака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4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стабилан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мировни мембрански потенцијал или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пор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деполаризациј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Настаје услед постојања канала који су пропустљиви за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и последичног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порог уласка јона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у ћелиј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74960" y="472428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98" name="Oval 5"/>
          <p:cNvSpPr/>
          <p:nvPr/>
        </p:nvSpPr>
        <p:spPr>
          <a:xfrm>
            <a:off x="3635280" y="5805360"/>
            <a:ext cx="2890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Ови канали се активирају одмах након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хиперполаризациј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по завршеној реполаризациј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зивају се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н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али због њихове неуобичајене (е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ешне) активације називају се и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”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нали, а струја која настаје проласком јона кроз ове канале назива се смешна струја или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ny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874960" y="429084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102" name="Oval 5"/>
          <p:cNvSpPr/>
          <p:nvPr/>
        </p:nvSpPr>
        <p:spPr>
          <a:xfrm>
            <a:off x="3635280" y="537372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9"/>
          <p:cNvCxnSpPr/>
          <p:nvPr/>
        </p:nvCxnSpPr>
        <p:spPr>
          <a:xfrm flipV="1">
            <a:off x="4716000" y="5832000"/>
            <a:ext cx="1080" cy="550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" name="TextBox 11"/>
          <p:cNvSpPr/>
          <p:nvPr/>
        </p:nvSpPr>
        <p:spPr>
          <a:xfrm>
            <a:off x="3708360" y="6308640"/>
            <a:ext cx="35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Хиперполаризација и активациј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„h” </a:t>
            </a: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кан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0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брз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деполаризациј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степено повећање мембранског потенцијала током фазе 4 изазива отварање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спорих)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калцијумских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след отварањ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а јо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лазе у ћелију у изазивају деполаризац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 разлику од фазе 0 у преткоморама, коморама и Пуркињеовим влакнима која настаје услед уласка јон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0 у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у настаје услед уласка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874960" y="472428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108" name="Oval 5"/>
          <p:cNvSpPr/>
          <p:nvPr/>
        </p:nvSpPr>
        <p:spPr>
          <a:xfrm>
            <a:off x="3851280" y="530064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3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поларизациј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На врху сваког импулса повећава се пропустљивост мембране за калијум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и повећан излазак јона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ћелије изазива реполаризац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е 1 и 2 акционог потенцијала претокомора, комора и Пуркињеових влакан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 постој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акционом потенцијалу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874960" y="436248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112" name="Oval 5"/>
          <p:cNvSpPr/>
          <p:nvPr/>
        </p:nvSpPr>
        <p:spPr>
          <a:xfrm>
            <a:off x="4427640" y="4941720"/>
            <a:ext cx="360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за 4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краћ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траје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дуж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ис-Пуркињеовом систем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то је у физиолошким услови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 предводник срчаног рит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а стварања импулса у појединим деловима спроводног сис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 – од 60 до 100 импулса у мину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чвор – од 40 до 60 импулса и мину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ркињеова влакна – од 15 до 40 импулса у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Брзина спровођењ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мпулса је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ајмањ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чвор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што даје довољно времена да се коморе напуне крвљу пре контракције, 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ајвећ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Пуркињеовим влакни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што омогућава да се сви делови комора контрахују истовремен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728720" y="3573360"/>
            <a:ext cx="568656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160" y="837720"/>
            <a:ext cx="537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рађа ср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ве претко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ве ко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Четири зали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триовентрику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трикуспидни ( три кусп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митрални ( два кусп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милуна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залистак а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залистак плућне ар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"/>
          <p:cNvPicPr/>
          <p:nvPr/>
        </p:nvPicPr>
        <p:blipFill>
          <a:blip r:embed="rId1"/>
          <a:stretch/>
        </p:blipFill>
        <p:spPr>
          <a:xfrm>
            <a:off x="4714920" y="357120"/>
            <a:ext cx="4214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Током фаза 0, 1 и 2, као и током половине фазе 3 акционог потенцијала комора и преткомора, односно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ок мембрански потенцијал не достигне приближно –50 mV за време реполаризације, срчани мишић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е мож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бити поново надраже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оком ових фаза акционог потенцијала срчани мишић се налази у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псолутном рефракторном периоду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Апсолутни рефрактарни период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редставља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време током кога акциони потенцијал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 може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да се изазове без обзира на јачину стимулуса, јер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 који узрокују деполаризацију још увек у инактивираном стањ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Друга половина реполаризације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лативни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ефрактарни период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24" name="Oval 4"/>
          <p:cNvSpPr/>
          <p:nvPr/>
        </p:nvSpPr>
        <p:spPr>
          <a:xfrm>
            <a:off x="3887640" y="5842080"/>
            <a:ext cx="54000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4751280" y="5842080"/>
            <a:ext cx="54144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Током релативног рефрактарног периода акциони потенцијал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да се изазове, али је потребан знатно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јач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тимулус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јер је део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а још увек у инактивираном стању, а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 су још увек отвор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стојање дугог рефрактарног периода спречава тетанизацију срчаног мишића, која би била летална у било ком период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29" name="Oval 4"/>
          <p:cNvSpPr/>
          <p:nvPr/>
        </p:nvSpPr>
        <p:spPr>
          <a:xfrm>
            <a:off x="3887640" y="5842080"/>
            <a:ext cx="54000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4751280" y="5842080"/>
            <a:ext cx="54144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Контрактилни одговор срчаног мишића започиње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посредно након почетка деполаризације, при чему је време трајања контракције приближно 50% дуже од времена трајања акционог потенција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Ћелијска мембрана кардиомиоцита прави дубоке инвагинације у области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-линија које се називају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-тубул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Т-тубули омогућавају преношење акционог потенцијала у унутрашњост ћел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аркоплазматск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тикулум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чине тубули малог дијаметра који се налазе у близини контрактилних филамена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Саркоплазматски ретикулум представља депо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оји је неопходан за контракц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882720" y="765000"/>
            <a:ext cx="7378560" cy="5896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826920" y="6237360"/>
            <a:ext cx="289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 разлику од скелетног мишића где се са стране Т-тубула налазе цистерне саркоплазматског ретикулума, образујући тријаде, у срчаном мишићу нема тако правилног распореда ових структу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мембрани Т-тубула се налазе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дихидропиридински рецептори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HPR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, који су волтаж-завис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 и који се активирају током деполаризације и омогућавају улазак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екстрацелуларног простора у кардиомиоцит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екстрацелуларног простора се везује з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ијанодинск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цепто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yR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 на саркоплазматском ретикулум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ијанодински рецептори су лиганд-завис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Лиганд за ријанодинске рецепторе је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оји улази у кардиомиоците из екстрацелуларног просто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бог тога се ослобађање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саркоплзматског ретикулума, посредством ријанодинских рецептора, који се активирају дејсвом екстрацепуларног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који улази кроз дихидропиридинске рецепторе, назив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калцијумом индуковано ослобађање калцију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332000" y="3798720"/>
            <a:ext cx="6654600" cy="30592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1258920" y="3789360"/>
            <a:ext cx="100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5435640" y="3789360"/>
            <a:ext cx="22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елетни миш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3361680" y="4221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3836520" y="5445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2612520" y="5364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6817680" y="6443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4080960" y="6443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1763640" y="4221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лариз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5940360" y="4221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лариз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бог омогућавања релаксације срчаног мишића и пуњења срца крвљу врло је значајно адекватно уклањање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цитоплазм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Јо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се из цитоплазме кардиомиоцита враћају у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аркоплазматск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тикулум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посредством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SERCA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пумп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саркоплазматска)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ATP-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аз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Јо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се из цитоплазме кардиомиоцита избацују у екстрацелуларни простор посредством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/C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измењивач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на чију функцију утиче концентрациј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цитоплазми (коју контролише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, K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-аза), као и дејством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пумп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оја се налази на ћелијској мембрани кардиомиоци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Ефикасно уклањање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цитоплазме помоћу наведених система омогућава релаксацију миокарда и адекватно пуњење комора крвљ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2556000" y="2781360"/>
            <a:ext cx="41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Срчани цикл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4" descr="animacija"/>
          <p:cNvPicPr/>
          <p:nvPr/>
        </p:nvPicPr>
        <p:blipFill>
          <a:blip r:embed="rId1"/>
          <a:stretch/>
        </p:blipFill>
        <p:spPr>
          <a:xfrm>
            <a:off x="2127240" y="1920960"/>
            <a:ext cx="5214960" cy="46036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5"/>
          <p:cNvSpPr/>
          <p:nvPr/>
        </p:nvSpPr>
        <p:spPr>
          <a:xfrm>
            <a:off x="914400" y="525600"/>
            <a:ext cx="73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РЦЕ СВАКОДНЕВНО МОЖЕ ДА ОСТВАРИ ОКО 100.000 ОТКУЦАЈА ОНДА И МИ  МОЖЕМО ДА УСВОЈИМО СВАКУ ФИНЕСУ О СРЧАНОМ ЦИКЛУСУ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Резултат слика за srcani zalisci"/>
          <p:cNvPicPr/>
          <p:nvPr/>
        </p:nvPicPr>
        <p:blipFill>
          <a:blip r:embed="rId1"/>
          <a:stretch/>
        </p:blipFill>
        <p:spPr>
          <a:xfrm>
            <a:off x="1116000" y="836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2627280" y="5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ЧАНИ ЗАЛИС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79280" y="1341360"/>
            <a:ext cx="393552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А-</a:t>
            </a: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(atrio-ventrikularne)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лвуле (трикуспидална и митрална валвула) спречавају да се крв за време систоле враћа из комора у претком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79280" y="263700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Семилунарне валвул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(валвула аорте и валвула пулмоналне артерије) за време дијастоле спречавају да се крв враћа из аорте и плућне артерије у ком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рчане валвуле се пасивно отварају и затварају као последиц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дијента прит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Резултат слика за srcani zalisci"/>
          <p:cNvPicPr/>
          <p:nvPr/>
        </p:nvPicPr>
        <p:blipFill>
          <a:blip r:embed="rId1"/>
          <a:stretch/>
        </p:blipFill>
        <p:spPr>
          <a:xfrm>
            <a:off x="3780000" y="1844640"/>
            <a:ext cx="5929200" cy="45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332000" y="477360"/>
            <a:ext cx="65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ПИЛАРНИ МИШИЋ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4284720" y="1268280"/>
            <a:ext cx="4613040" cy="4826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179280" y="2060640"/>
            <a:ext cx="41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апиларни мишић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hordae tendineae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чвршћују за ивице валвула се контрахују када се зидови комора контрахују, и не помажу затварање валвула. Њихова функција је да вуку залиске у коморе, па се за време систоле комора валвуле не могу превише избочити у претко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5414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рчани циклус – период од почетка јед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тракције до почетка друге контр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стоји се од: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оле (контракције)                             дијастоле (релакса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sis"/>
          <p:cNvPicPr/>
          <p:nvPr/>
        </p:nvPicPr>
        <p:blipFill>
          <a:blip r:embed="rId1"/>
          <a:stretch/>
        </p:blipFill>
        <p:spPr>
          <a:xfrm>
            <a:off x="0" y="3168720"/>
            <a:ext cx="2811600" cy="3689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dij"/>
          <p:cNvPicPr/>
          <p:nvPr/>
        </p:nvPicPr>
        <p:blipFill>
          <a:blip r:embed="rId2"/>
          <a:stretch/>
        </p:blipFill>
        <p:spPr>
          <a:xfrm>
            <a:off x="6329520" y="3173400"/>
            <a:ext cx="281448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БАЦИВАЊА (ЕЈЕКЦИЈЕ) К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фаза брз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фаза спор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Vladimir Zivkovic\Desktop\GANONG\SLIKE\XXX POGLAVLjE\PNG\Gan024_Slika_30-01.png"/>
          <p:cNvPicPr/>
          <p:nvPr/>
        </p:nvPicPr>
        <p:blipFill>
          <a:blip r:embed="rId1"/>
          <a:srcRect l="0" t="0" r="0" b="53430"/>
          <a:stretch/>
        </p:blipFill>
        <p:spPr>
          <a:xfrm>
            <a:off x="1116000" y="2997360"/>
            <a:ext cx="77454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Users\Vladimir Zivkovic\Desktop\GANONG\SLIKE\XXX POGLAVLjE\PNG\Gan024_Slika_30-01.png"/>
          <p:cNvPicPr/>
          <p:nvPr/>
        </p:nvPicPr>
        <p:blipFill>
          <a:blip r:embed="rId1"/>
          <a:srcRect l="0" t="0" r="53848" b="53430"/>
          <a:stretch/>
        </p:blipFill>
        <p:spPr>
          <a:xfrm>
            <a:off x="4572000" y="213372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324000" y="227664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а почетку систоле комора, АV залисци се затварају, а семилунарни залисци се још нису отвор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рски мишић се мало скрати, интравентрикуларни притисак нагло расте (миокард притиска крв у комора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Pro-Regular"/>
              </a:rPr>
              <a:t>- Овај период </a:t>
            </a:r>
            <a:r>
              <a:rPr b="0" lang="ru-RU" sz="1800" spc="-1" strike="noStrike">
                <a:solidFill>
                  <a:srgbClr val="000000"/>
                </a:solidFill>
                <a:latin typeface="MinionPro-Regular"/>
              </a:rPr>
              <a:t>траје око 0,05 секунди, све док притисак у левој и десној комори не надвлада притиске у </a:t>
            </a:r>
            <a:r>
              <a:rPr b="0" lang="en-US" sz="1800" spc="-1" strike="noStrike">
                <a:solidFill>
                  <a:srgbClr val="000000"/>
                </a:solidFill>
                <a:latin typeface="MinionPro-Regular"/>
              </a:rPr>
              <a:t>аорти и плућној артер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ФАЗА ИЗБАЦИВАЊА (ЕЈЕКЦИЈЕ) К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фаза брз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фаза спор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95280" y="285264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да притисак у левој и десној комори надвлада притиске 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орти (80 mmHg) и плућној артерији (10 mmHg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ази до отварања аортних и плућних залист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Ејекција је у почетку брза, а у даљем току систоле се успо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Users\Vladimir Zivkovic\Desktop\GANONG\SLIKE\XXX POGLAVLjE\PNG\Gan024_Slika_30-01.png"/>
          <p:cNvPicPr/>
          <p:nvPr/>
        </p:nvPicPr>
        <p:blipFill>
          <a:blip r:embed="rId1"/>
          <a:srcRect l="46558" t="0" r="0" b="53430"/>
          <a:stretch/>
        </p:blipFill>
        <p:spPr>
          <a:xfrm>
            <a:off x="5148360" y="2492280"/>
            <a:ext cx="4608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4000" y="148392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јвиши притисак у левој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ри износи око 120 mmHg, а у десној око 25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рни волумен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се сваком контракцијом комора у мировању избаци (70–90 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д-систолни волумен комор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остаје у коморама на крају систоле (50 – 60 m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јекциона фракциј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нат енд-дијастолног волумена (130-140 ml) који се избаци при свакој систоли (око 6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јекциона фракција је значај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ељ функције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нутни волумен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мина крви коју срце испумпа током једног минута (у миру износи 4-6 L/мин), једнака је производу ударног волумена и фреквенције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РЕЛАКС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рана фаза брзог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фаза спорог пуњења комора (дијаст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касна фаза брзог пуњења комора (систола претком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Vladimir Zivkovic\Desktop\GANONG\SLIKE\XXX POGLAVLjE\PNG\Gan024_Slika_30-01.png"/>
          <p:cNvPicPr/>
          <p:nvPr/>
        </p:nvPicPr>
        <p:blipFill>
          <a:blip r:embed="rId1"/>
          <a:srcRect l="0" t="46576" r="0" b="0"/>
          <a:stretch/>
        </p:blipFill>
        <p:spPr>
          <a:xfrm>
            <a:off x="1332000" y="2924280"/>
            <a:ext cx="662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ФАЗА ИЗОВОЛУМЕТРИЈСКЕ РЕЛАКС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Vladimir Zivkovic\Desktop\GANONG\SLIKE\XXX POGLAVLjE\PNG\Gan024_Slika_30-01.png"/>
          <p:cNvPicPr/>
          <p:nvPr/>
        </p:nvPicPr>
        <p:blipFill>
          <a:blip r:embed="rId1"/>
          <a:srcRect l="0" t="46576" r="64134" b="0"/>
          <a:stretch/>
        </p:blipFill>
        <p:spPr>
          <a:xfrm>
            <a:off x="4998960" y="2276640"/>
            <a:ext cx="3894120" cy="4321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8229600" y="30686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24000" y="1916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да се залисци затворe, притисак наставља брзо да 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лунарни залисци су затворени, а   АV залисци се још нису отвор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ва фаза се завршава када комор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тисак падне испод притиска у преткоморама и АV залисци се отворе, омогућавајући пуњење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79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ФАЗА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рана фаза брзог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фаза спорог пуњења комора (дијаст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касна фаза брзог пуњења комора (систола претком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Users\Vladimir Zivkovic\Desktop\GANONG\SLIKE\XXX POGLAVLjE\PNG\Gan024_Slika_30-01.png"/>
          <p:cNvPicPr/>
          <p:nvPr/>
        </p:nvPicPr>
        <p:blipFill>
          <a:blip r:embed="rId1"/>
          <a:srcRect l="32539" t="46576" r="0" b="0"/>
          <a:stretch/>
        </p:blipFill>
        <p:spPr>
          <a:xfrm>
            <a:off x="4356000" y="2708280"/>
            <a:ext cx="4788000" cy="39607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17928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V залисци су отворени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ртни и пулмонални залисци затвор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в из преткомора утиче у коморе најпре брзо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а фаза брзог пуњења комора), потом споро-пасивно (дијастаза), док се преосталих 25-30% крви избаци систолом (контракцијом) прет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7030a0"/>
                </a:solidFill>
                <a:latin typeface="Arial"/>
              </a:rPr>
              <a:t>Особине ср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не 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иокарда имају мембрански потенцијал мировања од око -90 m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не 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 међусобно раздвоје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ск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мбранама, али се деполаризација, захваљујућ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озним веза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које се налазе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теркалатним дискови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discus intercalatu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шири радиј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оз миокард, услед чега се срце понаша ка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 синцицију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276720" y="4365720"/>
            <a:ext cx="5688000" cy="1960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50920" y="50925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нов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„синцицијумске” природе срчаног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26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030a0"/>
                </a:solidFill>
                <a:latin typeface="Arial"/>
              </a:rPr>
              <a:t>Временски аспекти срчаног циклус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047000" cy="28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око 0,8 секунди (фреквенца 70-80/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стола комора – 1/3 времена – 0,3 секу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стола комора – 2/3 времена – 0,5 секу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стола преткомора – 0,1 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стола преткомора – 0,7 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030a0"/>
                </a:solidFill>
                <a:latin typeface="Arial"/>
              </a:rPr>
              <a:t>Временски аспекти срчаног циклус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70436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Са повећањем фреквенције срца, срчани циклус се скраћу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раћење трајања систоле је последица скраћења фазе ејекције у сист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ајање дијастоле се са повећањем фреквенције више смању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чани мишић мирује током дијастоле, и коронарни проток крви кроз субендокардне делове леве коморе остварује се само у току дијасто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исоким фреквенцијама пуњење је адекватно све док постоји довољан венски прилив, а минутни волумен срца расте на рачун повећања фреквен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исоким фреквенцијама, пуњење може бити компромитовано до т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а да се смањи минутни волумен ср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дући да има продужен акциони потенцијал, срчани мишић није у стању да реагује контракцијом на нови стимулус све до пред крај иницијалне контракције -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може доћи до тетанизације срчаног мишић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1026"/>
          <p:cNvSpPr/>
          <p:nvPr/>
        </p:nvSpPr>
        <p:spPr>
          <a:xfrm>
            <a:off x="2195640" y="1916280"/>
            <a:ext cx="799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27"/>
          <p:cNvSpPr/>
          <p:nvPr/>
        </p:nvSpPr>
        <p:spPr>
          <a:xfrm flipH="1">
            <a:off x="4284360" y="19890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28"/>
          <p:cNvSpPr/>
          <p:nvPr/>
        </p:nvSpPr>
        <p:spPr>
          <a:xfrm flipV="1">
            <a:off x="2340000" y="3716280"/>
            <a:ext cx="685800" cy="10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29"/>
          <p:cNvSpPr/>
          <p:nvPr/>
        </p:nvSpPr>
        <p:spPr>
          <a:xfrm flipH="1" flipV="1">
            <a:off x="4211280" y="3789360"/>
            <a:ext cx="685800" cy="10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30"/>
          <p:cNvSpPr/>
          <p:nvPr/>
        </p:nvSpPr>
        <p:spPr>
          <a:xfrm>
            <a:off x="960480" y="84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31"/>
          <p:cNvSpPr/>
          <p:nvPr/>
        </p:nvSpPr>
        <p:spPr>
          <a:xfrm>
            <a:off x="1795680" y="20527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33"/>
          <p:cNvSpPr/>
          <p:nvPr/>
        </p:nvSpPr>
        <p:spPr>
          <a:xfrm>
            <a:off x="179280" y="447840"/>
            <a:ext cx="8713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ори који утичу на минутни волумен ср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34"/>
          <p:cNvSpPr/>
          <p:nvPr/>
        </p:nvSpPr>
        <p:spPr>
          <a:xfrm>
            <a:off x="539640" y="1413360"/>
            <a:ext cx="27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реквенција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35"/>
          <p:cNvSpPr/>
          <p:nvPr/>
        </p:nvSpPr>
        <p:spPr>
          <a:xfrm>
            <a:off x="4643280" y="1125360"/>
            <a:ext cx="1776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468360" y="4383360"/>
            <a:ext cx="2879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Контрактил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7"/>
          <p:cNvSpPr/>
          <p:nvPr/>
        </p:nvSpPr>
        <p:spPr>
          <a:xfrm>
            <a:off x="4427640" y="4725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8"/>
          <p:cNvSpPr/>
          <p:nvPr/>
        </p:nvSpPr>
        <p:spPr>
          <a:xfrm>
            <a:off x="2987640" y="315288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039"/>
          <p:cNvSpPr/>
          <p:nvPr/>
        </p:nvSpPr>
        <p:spPr>
          <a:xfrm>
            <a:off x="3132000" y="2852640"/>
            <a:ext cx="115272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68360" y="5445000"/>
            <a:ext cx="80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ELOAD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чана мишићна влакна истегнута оптерећењем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 до кога се миокард истеже пре контрак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FTERLOAD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терећење притиском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кнадно оптерећење представља отпор против кога се крв истискује из ком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150px-Otto_frank_physiologist"/>
          <p:cNvPicPr/>
          <p:nvPr/>
        </p:nvPicPr>
        <p:blipFill>
          <a:blip r:embed="rId1"/>
          <a:stretch/>
        </p:blipFill>
        <p:spPr>
          <a:xfrm>
            <a:off x="2195640" y="1916280"/>
            <a:ext cx="1698480" cy="2304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150px-Ernest_Starling"/>
          <p:cNvPicPr/>
          <p:nvPr/>
        </p:nvPicPr>
        <p:blipFill>
          <a:blip r:embed="rId2"/>
          <a:stretch/>
        </p:blipFill>
        <p:spPr>
          <a:xfrm>
            <a:off x="6394320" y="1916280"/>
            <a:ext cx="1863720" cy="2233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1993680" y="33336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ГУЛАЦИЈА РАДА СРЦ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68360" y="1125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уторегулација срчаног ра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rank-Starling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633680" y="45864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to Fr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865 - 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5183280" y="4580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nest Henry Star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866 –19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24000" y="56610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утономни нервни сист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атички и парасимпатички нер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8"/>
          <p:cNvSpPr/>
          <p:nvPr/>
        </p:nvSpPr>
        <p:spPr>
          <a:xfrm>
            <a:off x="-58680" y="620640"/>
            <a:ext cx="91832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УТОРЕГУЛАЦИЈА СРЧАНОГ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k-Starling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физиолошким граница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це ће испумпати сву крв која у њега дође,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звољавајући да се превелика количина крви накуп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вен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29"/>
          <p:cNvSpPr/>
          <p:nvPr/>
        </p:nvSpPr>
        <p:spPr>
          <a:xfrm>
            <a:off x="635040" y="3141720"/>
            <a:ext cx="658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УТОНОМНИ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ФЕКТИ НА СР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rcRect l="0" t="30823" r="0" b="49418"/>
          <a:stretch/>
        </p:blipFill>
        <p:spPr>
          <a:xfrm>
            <a:off x="34920" y="4508640"/>
            <a:ext cx="9109080" cy="1152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rcRect l="0" t="-240" r="0" b="87550"/>
          <a:stretch/>
        </p:blipFill>
        <p:spPr>
          <a:xfrm>
            <a:off x="34920" y="3789360"/>
            <a:ext cx="910908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7030a0"/>
                </a:solidFill>
                <a:latin typeface="Arial"/>
              </a:rPr>
              <a:t>Акциони потенцијали ср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е разлике у изгледу акционих потенцијала у појединим деловима ср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упадљивија карактеристика акционог потенцијала кардиомиоцита преткомора, комора и Пуркињеових влакана је постоја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лато ф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услед чега контракција срчаног мишића траје знатно дуже у односу на скелетни миши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286240" y="3573360"/>
            <a:ext cx="382284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0" y="3860640"/>
            <a:ext cx="550872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 кардиомиоцита преткомора, комора и Пуркињеових влакана састоји се из следећих фа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0 – деполар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1 – почетна реполар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2 – плато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3 – реполар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4 – мировни мембрански потенциј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0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 представљ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брзу деполаризациј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уласк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јон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кроз брзе, волтаж-зависне натријумске канале (натријумска струја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, при чему вердност мембранског потенцијала тежи да достигне равнотежни потенцијал з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2708280" y="3213000"/>
            <a:ext cx="3727440" cy="3456000"/>
          </a:xfrm>
          <a:prstGeom prst="rect">
            <a:avLst/>
          </a:prstGeom>
          <a:ln w="0">
            <a:noFill/>
          </a:ln>
        </p:spPr>
      </p:pic>
      <p:sp>
        <p:nvSpPr>
          <p:cNvPr id="60" name="Oval 7"/>
          <p:cNvSpPr/>
          <p:nvPr/>
        </p:nvSpPr>
        <p:spPr>
          <a:xfrm>
            <a:off x="3635280" y="4653000"/>
            <a:ext cx="28908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3348000" y="6021360"/>
            <a:ext cx="2872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очетну реполаризациј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затварања канала за натрију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, услед чега се смањује количина позитивног наелектрисања које улази у ћелију, и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отварања канала за калију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услед чега се повећава количина позитивног наелектрисања које излази из ћел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041640" y="3141720"/>
            <a:ext cx="3060720" cy="284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3041640" y="5950080"/>
            <a:ext cx="3060720" cy="507960"/>
          </a:xfrm>
          <a:prstGeom prst="rect">
            <a:avLst/>
          </a:prstGeom>
          <a:ln w="0">
            <a:noFill/>
          </a:ln>
        </p:spPr>
      </p:pic>
      <p:sp>
        <p:nvSpPr>
          <p:cNvPr id="66" name="Oval 7"/>
          <p:cNvSpPr/>
          <p:nvPr/>
        </p:nvSpPr>
        <p:spPr>
          <a:xfrm>
            <a:off x="3924360" y="3141720"/>
            <a:ext cx="2872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3708360" y="5445000"/>
            <a:ext cx="2872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3708360" y="6093000"/>
            <a:ext cx="28728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2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лато фаз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кционог потенциј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пролазног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ропустљивост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мембране з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калцију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 услед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ијег и продуженог отварања волтаж-зависних канала за калцијум и уласк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у кардиомиоците (C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струја, I</a:t>
            </a:r>
            <a:r>
              <a:rPr b="0" lang="sr-CS" sz="2200" spc="-1" strike="noStrike" baseline="-25000">
                <a:solidFill>
                  <a:srgbClr val="000000"/>
                </a:solidFill>
                <a:latin typeface="Arial"/>
              </a:rPr>
              <a:t>C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, као и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мањењ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роводљивост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5746680" y="3141720"/>
            <a:ext cx="3384720" cy="246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5746680" y="5589720"/>
            <a:ext cx="3384720" cy="1157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0" y="3284640"/>
            <a:ext cx="529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личина С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која уђе у кардиомиоците и К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која изађе је приближно иста, па се потенцијал мембране одржава на плато ниво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8"/>
          <p:cNvSpPr/>
          <p:nvPr/>
        </p:nvSpPr>
        <p:spPr>
          <a:xfrm>
            <a:off x="7236000" y="3357720"/>
            <a:ext cx="28872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9"/>
          <p:cNvSpPr/>
          <p:nvPr/>
        </p:nvSpPr>
        <p:spPr>
          <a:xfrm>
            <a:off x="6588000" y="5732640"/>
            <a:ext cx="165600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6659640" y="6165720"/>
            <a:ext cx="165744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3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реполаризациј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нала з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лцију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спорог, одложеног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ласк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лијум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из ћелије кроз калијумске канале, при чему се потенцијал враћа на вредности мировног мембранског потенцијал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862360" y="3313080"/>
            <a:ext cx="3419280" cy="249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2862360" y="5818320"/>
            <a:ext cx="3419280" cy="563400"/>
          </a:xfrm>
          <a:prstGeom prst="rect">
            <a:avLst/>
          </a:prstGeom>
          <a:ln w="0">
            <a:noFill/>
          </a:ln>
        </p:spPr>
      </p:pic>
      <p:sp>
        <p:nvSpPr>
          <p:cNvPr id="81" name="Oval 5"/>
          <p:cNvSpPr/>
          <p:nvPr/>
        </p:nvSpPr>
        <p:spPr>
          <a:xfrm>
            <a:off x="5508720" y="4797360"/>
            <a:ext cx="28872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5364000" y="587700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8:06:34Z</dcterms:created>
  <dc:creator>Prodekani 2</dc:creator>
  <dc:description/>
  <dc:language>en-US</dc:language>
  <cp:lastModifiedBy>Vladimir Zivkovic</cp:lastModifiedBy>
  <dcterms:modified xsi:type="dcterms:W3CDTF">2016-09-01T09:57:51Z</dcterms:modified>
  <cp:revision>45</cp:revision>
  <dc:subject/>
  <dc:title>Физиологија срца</dc:title>
</cp:coreProperties>
</file>